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C636-BB31-4686-96F8-A61C82C20597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05F4-76ED-4DF4-93B9-740C77FD4C2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6E2-F635-4100-BA5D-CFC7062FA8E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4609-E5AF-4D92-AA80-0BCF48149DAA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B84D-EA58-4133-B8FD-C2FEA88C41BC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3 Slayt Numarası Yer Tutucusu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CACC-EC78-4526-8650-3863D1E00682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19A-CD18-45F4-80C0-8479D05E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129-CC12-4CE6-9845-7660947E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646-002B-43EC-8C1E-E8C94F29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619-323C-492E-B5FC-ACEFFEF9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9EF-B9E1-4FFC-BB80-14B1F4F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9E7-D64E-4165-BF4F-46648494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419-59CF-439B-9005-73CCAC06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1B9-B7C1-4386-9D49-ECA1F0A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040-100A-42DA-BB76-D79B972D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A7C-060C-4C8B-BC7D-0C2C812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1DD-C321-40F8-A549-6CB51E4C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C3B-424A-424A-8FCA-3440DB72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481A-E54C-46CB-AD69-55C335880BD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Onlar,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yaşam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önlerin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katarla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ğaçtan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indirdik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Geziye yarın gidecekle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Uyarı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işaretlerine dikkat e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Hiç kimse ağlamasın yurdumda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Kara elmas Zonguldak'tan çıkıyo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cc33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ç kurt, aslana saldırır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14200" y="214200"/>
          <a:ext cx="8715600" cy="6357960"/>
        </p:xfrm>
        <a:graphic>
          <a:graphicData uri="http://schemas.openxmlformats.org/drawingml/2006/table">
            <a:tbl>
              <a:tblPr/>
              <a:tblGrid>
                <a:gridCol w="8715600"/>
              </a:tblGrid>
              <a:tr h="1271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dan oldu dünya başıma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erhamet etmiyor bana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et yürüyecek arkandan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Tren oradan geçmiyor.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71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6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a parayı dedem verdi.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8000" spc="-1" strike="noStrike">
                <a:solidFill>
                  <a:srgbClr val="000000"/>
                </a:solidFill>
                <a:latin typeface="Tahoma"/>
                <a:ea typeface="Tahoma"/>
              </a:rPr>
              <a:t>Anam </a:t>
            </a:r>
            <a:br>
              <a:rPr sz="8000"/>
            </a:br>
            <a:r>
              <a:rPr b="1" lang="nn-NO" sz="8000" spc="-1" strike="noStrike">
                <a:solidFill>
                  <a:srgbClr val="000000"/>
                </a:solidFill>
                <a:latin typeface="Tahoma"/>
                <a:ea typeface="Tahoma"/>
              </a:rPr>
              <a:t>doğurmuş, </a:t>
            </a:r>
            <a:br>
              <a:rPr sz="8000"/>
            </a:br>
            <a:r>
              <a:rPr b="1" lang="nn-NO" sz="8000" spc="-1" strike="noStrike">
                <a:solidFill>
                  <a:srgbClr val="000000"/>
                </a:solidFill>
                <a:latin typeface="Tahoma"/>
                <a:ea typeface="Tahoma"/>
              </a:rPr>
              <a:t>beni </a:t>
            </a:r>
            <a:br>
              <a:rPr sz="8000"/>
            </a:br>
            <a:r>
              <a:rPr b="1" lang="nn-NO" sz="8000" spc="-1" strike="noStrike">
                <a:solidFill>
                  <a:srgbClr val="000000"/>
                </a:solidFill>
                <a:latin typeface="Tahoma"/>
                <a:ea typeface="Tahoma"/>
              </a:rPr>
              <a:t>Sivas ilind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Nerede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ıraktım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kalbim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Hatırlataca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bize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çocukluğ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00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Doktor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ulamadı </a:t>
            </a:r>
            <a:br>
              <a:rPr sz="8000"/>
            </a:b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bana ilac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Mecnun'a dönderdi,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bu sevda beni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Yüzüğü küçük çekmeceye bıraktı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ff00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Sarı laleler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aldım sana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çiçek </a:t>
            </a:r>
            <a:br>
              <a:rPr sz="8000"/>
            </a:br>
            <a:r>
              <a:rPr b="1" lang="tr-TR" sz="8000" spc="-1" strike="noStrike">
                <a:solidFill>
                  <a:srgbClr val="000000"/>
                </a:solidFill>
                <a:latin typeface="Tahoma"/>
                <a:ea typeface="Tahoma"/>
              </a:rPr>
              <a:t>pazarından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90440">
            <a:solidFill>
              <a:srgbClr val="ffa7a7"/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Tahoma"/>
                <a:ea typeface="Tahoma"/>
              </a:rPr>
              <a:t>Adam, birkaçını dolaba koydu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6:48:22Z</dcterms:created>
  <dc:creator>İBRAHİM</dc:creator>
  <dc:description/>
  <dc:language>en-US</dc:language>
  <cp:lastModifiedBy>İBRAHİM</cp:lastModifiedBy>
  <dcterms:modified xsi:type="dcterms:W3CDTF">2018-10-25T18:21:30Z</dcterms:modified>
  <cp:revision>131</cp:revision>
  <dc:subject/>
  <dc:title>KONU 1</dc:title>
</cp:coreProperties>
</file>